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E72-0B5D-4180-9500-07E1D810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D88-73F1-481F-BB1C-079DE85A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07E-7FEE-4C60-B770-3AE0576D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75A-0F81-431F-A283-04C576FE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1DB-3907-4E62-8163-41A4E23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E4A-9216-40B9-A558-58E99D80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3EB-8D96-4DB1-8E74-2FFC527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B50-85DC-4A3C-9BCF-3FF06438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4AD-5B80-4D22-837B-5D549CAA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194-3A59-4C6C-9145-10E33DFC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C2D-8AD5-4D73-8FE6-52B8FA0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719-3DCD-4CD1-9EE8-125C3DB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FB22-10AE-479C-B7B0-4C690A147A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12840" y="615960"/>
            <a:ext cx="67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SECESE. </a:t>
            </a: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CESTA K ABSTRAKCI</a:t>
            </a:r>
            <a:endParaRPr b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8" descr="duchamnop 1912"/>
          <p:cNvPicPr/>
          <p:nvPr/>
        </p:nvPicPr>
        <p:blipFill>
          <a:blip r:embed="rId1"/>
          <a:stretch/>
        </p:blipFill>
        <p:spPr>
          <a:xfrm>
            <a:off x="4464000" y="3141720"/>
            <a:ext cx="1920960" cy="3166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3" name="TextovéPole 1"/>
          <p:cNvSpPr/>
          <p:nvPr/>
        </p:nvSpPr>
        <p:spPr>
          <a:xfrm>
            <a:off x="4924440" y="189000"/>
            <a:ext cx="558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808_prezentace pro studenta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ovéPole 7"/>
          <p:cNvSpPr/>
          <p:nvPr/>
        </p:nvSpPr>
        <p:spPr>
          <a:xfrm>
            <a:off x="8263080" y="4724280"/>
            <a:ext cx="2232000" cy="155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eškerý obrazový materiál použitý v této prezentaci nepodléhá vzhledem k době svého vzniku žádným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autorským právům.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Mondrian_Composition_II_in_Red,_Blue,_and_Yellow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425920" y="692280"/>
            <a:ext cx="5139000" cy="5138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8" name="Picture 4" descr="Mondrian_CompRYB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3440" y="712800"/>
            <a:ext cx="4829040" cy="5091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4057560" y="5975280"/>
            <a:ext cx="2808360" cy="5806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Piet Mondrian: Kompozice (1930s a 1940s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1440000" y="260280"/>
            <a:ext cx="3241440" cy="1819080"/>
          </a:xfrm>
          <a:prstGeom prst="rect">
            <a:avLst/>
          </a:prstGeom>
          <a:solidFill>
            <a:srgbClr val="00008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eometrická abstrakc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a) Neoplasticismu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3300"/>
                </a:solidFill>
                <a:latin typeface="Georgia"/>
              </a:rPr>
              <a:t>b)  Orfismus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c)  Rayonismus/Luč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)  Supremat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1" name="Picture 4" descr="kupka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24360" y="260280"/>
            <a:ext cx="5676840" cy="635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osmic_spring_1_1913-14_frantisek-kupka_-kosmicke-jaro-1913-14"/>
          <p:cNvPicPr/>
          <p:nvPr/>
        </p:nvPicPr>
        <p:blipFill>
          <a:blip r:embed="rId2"/>
          <a:stretch/>
        </p:blipFill>
        <p:spPr>
          <a:xfrm>
            <a:off x="360360" y="2205000"/>
            <a:ext cx="4321080" cy="397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360360" y="6289560"/>
            <a:ext cx="5977080" cy="5806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František Kupka: Kosmické jaro (1911-12), Klávesy piána (1909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430440" y="2205000"/>
            <a:ext cx="2448000" cy="6426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Účinek úderu pěstí.“ 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(Robert Delauney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lavrionov "/>
          <p:cNvPicPr/>
          <p:nvPr/>
        </p:nvPicPr>
        <p:blipFill>
          <a:blip r:embed="rId1"/>
          <a:stretch/>
        </p:blipFill>
        <p:spPr>
          <a:xfrm>
            <a:off x="792000" y="260280"/>
            <a:ext cx="9361800" cy="6151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31640" y="260280"/>
            <a:ext cx="3241800" cy="1819080"/>
          </a:xfrm>
          <a:prstGeom prst="rect">
            <a:avLst/>
          </a:prstGeom>
          <a:solidFill>
            <a:srgbClr val="00008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eometrická abstrakc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a) Neoplasticismu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b)  Orf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c)  Rayonismus/Lučismus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)  Supremat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05080" y="6237360"/>
            <a:ext cx="6408720" cy="5806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Michail Fjodorovič Larionov: Červený a modrý rayonismus (1913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319040" y="260280"/>
            <a:ext cx="3241800" cy="1819080"/>
          </a:xfrm>
          <a:prstGeom prst="rect">
            <a:avLst/>
          </a:prstGeom>
          <a:solidFill>
            <a:srgbClr val="00008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eometrická abstrakc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a) Neoplasticismu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b)  Orf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c)  Rayonismus/Luč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d)  Suprematismus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9" name="Picture 4" descr="504px-Malevich-Suprematism"/>
          <p:cNvPicPr/>
          <p:nvPr/>
        </p:nvPicPr>
        <p:blipFill>
          <a:blip r:embed="rId1"/>
          <a:stretch/>
        </p:blipFill>
        <p:spPr>
          <a:xfrm>
            <a:off x="4746600" y="260280"/>
            <a:ext cx="5262480" cy="626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571px-Self-Portrait_(1908_or_1910-1911)"/>
          <p:cNvPicPr/>
          <p:nvPr/>
        </p:nvPicPr>
        <p:blipFill>
          <a:blip r:embed="rId2"/>
          <a:stretch/>
        </p:blipFill>
        <p:spPr>
          <a:xfrm>
            <a:off x="2820960" y="2205000"/>
            <a:ext cx="171612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6" descr="605px-Malevich"/>
          <p:cNvPicPr/>
          <p:nvPr/>
        </p:nvPicPr>
        <p:blipFill>
          <a:blip r:embed="rId3"/>
          <a:stretch/>
        </p:blipFill>
        <p:spPr>
          <a:xfrm>
            <a:off x="2182680" y="4149720"/>
            <a:ext cx="2378160" cy="2351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arevich,_Suprematist_Composition-_White_on_White_1917"/>
          <p:cNvPicPr/>
          <p:nvPr/>
        </p:nvPicPr>
        <p:blipFill>
          <a:blip r:embed="rId4"/>
          <a:stretch/>
        </p:blipFill>
        <p:spPr>
          <a:xfrm>
            <a:off x="1035000" y="2217600"/>
            <a:ext cx="1643040" cy="1773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95400" y="4149720"/>
            <a:ext cx="2016000" cy="17974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ffff"/>
                </a:solidFill>
                <a:uFillTx/>
                <a:latin typeface="Georgia"/>
              </a:rPr>
              <a:t>Kazimir Malevič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: Bílá na bílé, Černý čtverec na bílém pozadí, Autoportrét (1912), Autoportrét (1913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"/>
          <p:cNvSpPr/>
          <p:nvPr/>
        </p:nvSpPr>
        <p:spPr>
          <a:xfrm>
            <a:off x="468360" y="10321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Hroch, B., Dějiny výtvarné kultury, III, Praha 2005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Matisse_Conversation 191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0" y="333360"/>
            <a:ext cx="7345440" cy="5948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31640" y="320760"/>
            <a:ext cx="3097440" cy="1618560"/>
          </a:xfrm>
          <a:prstGeom prst="rect">
            <a:avLst/>
          </a:prstGeom>
          <a:solidFill>
            <a:srgbClr val="00008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Fauvismus </a:t>
            </a: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(1905)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 Expresionismus (1905) Kubismus (1907-10) Futurismus  (1909-10) Abstrakce (1910)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7" name="Picture 8" descr="Matissedance 1909 1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4600" y="2147760"/>
            <a:ext cx="2592360" cy="1704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8" name="Text Box 9"/>
          <p:cNvSpPr/>
          <p:nvPr/>
        </p:nvSpPr>
        <p:spPr>
          <a:xfrm>
            <a:off x="431640" y="3933720"/>
            <a:ext cx="26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ffff"/>
                </a:solidFill>
                <a:uFillTx/>
                <a:latin typeface="Georgia"/>
              </a:rPr>
              <a:t>Henri Matisse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: Tanec (1909), Rozhovor (1910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0360" y="57657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Barvy jsou pro nás dynamitové patrony.“ 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(Maurice Vlaminck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311640" y="630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Věřím jen tomu, co nemohu vidět, ale co cítím.“ 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(Georges Ronault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lla Čtenář Dostojevského"/>
          <p:cNvPicPr/>
          <p:nvPr/>
        </p:nvPicPr>
        <p:blipFill>
          <a:blip r:embed="rId1"/>
          <a:stretch/>
        </p:blipFill>
        <p:spPr>
          <a:xfrm>
            <a:off x="507960" y="189000"/>
            <a:ext cx="4857840" cy="6192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520560" y="639756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Emil Filla: Čtenář Dostojevského (1907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" name="Picture 4" descr="kubista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95840" y="668160"/>
            <a:ext cx="4845240" cy="5688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4" name="Text Box 5"/>
          <p:cNvSpPr/>
          <p:nvPr/>
        </p:nvSpPr>
        <p:spPr>
          <a:xfrm>
            <a:off x="5583240" y="63594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Bohumil Kubišta: Autoportrét (1908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595840" y="189000"/>
            <a:ext cx="3097440" cy="1313640"/>
          </a:xfrm>
          <a:prstGeom prst="rect">
            <a:avLst/>
          </a:prstGeom>
          <a:solidFill>
            <a:srgbClr val="00800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Expresionismus (1905)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 Kubismus (1907-10) Futurismus  (1909-10) Abstrakce (1910)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21080" y="638964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Josef Čapek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" name="Picture 3" descr="capek_a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76800" y="260280"/>
            <a:ext cx="5535720" cy="3165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8" name="Picture 4" descr="Josef Capek_Lide_1933"/>
          <p:cNvPicPr/>
          <p:nvPr/>
        </p:nvPicPr>
        <p:blipFill>
          <a:blip r:embed="rId2"/>
          <a:stretch/>
        </p:blipFill>
        <p:spPr>
          <a:xfrm>
            <a:off x="360360" y="1052640"/>
            <a:ext cx="4668840" cy="5256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9" name="Picture 6" descr="capek"/>
          <p:cNvPicPr/>
          <p:nvPr/>
        </p:nvPicPr>
        <p:blipFill>
          <a:blip r:embed="rId3"/>
          <a:stretch/>
        </p:blipFill>
        <p:spPr>
          <a:xfrm>
            <a:off x="5176800" y="3576600"/>
            <a:ext cx="3981600" cy="2986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leger "/>
          <p:cNvPicPr/>
          <p:nvPr/>
        </p:nvPicPr>
        <p:blipFill>
          <a:blip r:embed="rId1">
            <a:lum contrast="12000"/>
          </a:blip>
          <a:srcRect l="0" t="0" r="0" b="3221"/>
          <a:stretch/>
        </p:blipFill>
        <p:spPr>
          <a:xfrm>
            <a:off x="1139760" y="404640"/>
            <a:ext cx="8640720" cy="585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Text Box 3"/>
          <p:cNvSpPr/>
          <p:nvPr/>
        </p:nvSpPr>
        <p:spPr>
          <a:xfrm>
            <a:off x="2533680" y="6377040"/>
            <a:ext cx="5327640" cy="3682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erdinand L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ger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: Akty v lese (1910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31640" y="404640"/>
            <a:ext cx="2881440" cy="1008720"/>
          </a:xfrm>
          <a:prstGeom prst="rect">
            <a:avLst/>
          </a:prstGeom>
          <a:solidFill>
            <a:srgbClr val="9933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3300"/>
                </a:solidFill>
                <a:latin typeface="Georgia"/>
              </a:rPr>
              <a:t>Kubismus (1907-10)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 Futurismus  (1909-10) Abstrakce (1910)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uchamnop 1912"/>
          <p:cNvPicPr/>
          <p:nvPr/>
        </p:nvPicPr>
        <p:blipFill>
          <a:blip r:embed="rId1"/>
          <a:stretch/>
        </p:blipFill>
        <p:spPr>
          <a:xfrm>
            <a:off x="1270080" y="260280"/>
            <a:ext cx="3798720" cy="626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4" name="Picture 5" descr="duchamp"/>
          <p:cNvPicPr/>
          <p:nvPr/>
        </p:nvPicPr>
        <p:blipFill>
          <a:blip r:embed="rId2"/>
          <a:stretch/>
        </p:blipFill>
        <p:spPr>
          <a:xfrm>
            <a:off x="5302080" y="260280"/>
            <a:ext cx="4437360" cy="626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5291280" y="247680"/>
            <a:ext cx="2881080" cy="1008720"/>
          </a:xfrm>
          <a:prstGeom prst="rect">
            <a:avLst/>
          </a:prstGeom>
          <a:solidFill>
            <a:srgbClr val="ff99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Kubismus (1907-10)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 Futurismus  (1909-10) Abstrakce (1910)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33680" y="6377040"/>
            <a:ext cx="5327640" cy="64260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Marcel Duchamp: Akt sestupující ze schodů (1912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481px-'Unique_Forms_of_Continuity_in_Space',_1913_bronze_by_Umberto_Boccioni"/>
          <p:cNvPicPr/>
          <p:nvPr/>
        </p:nvPicPr>
        <p:blipFill>
          <a:blip r:embed="rId1"/>
          <a:stretch/>
        </p:blipFill>
        <p:spPr>
          <a:xfrm>
            <a:off x="360360" y="189000"/>
            <a:ext cx="5030640" cy="626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360360" y="6237360"/>
            <a:ext cx="5040360" cy="33732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Umberto Boccioni: Nepřetržitý prostor (1913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" name="Picture 6" descr="balla1"/>
          <p:cNvPicPr/>
          <p:nvPr/>
        </p:nvPicPr>
        <p:blipFill>
          <a:blip r:embed="rId2"/>
          <a:stretch/>
        </p:blipFill>
        <p:spPr>
          <a:xfrm>
            <a:off x="5545080" y="189000"/>
            <a:ext cx="4176720" cy="3124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8805960" y="3467160"/>
            <a:ext cx="1800000" cy="229500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iacomo Balla: Dynamismus psa na vodítku (1912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U.Boccioni: Hluk ulice vnikl do domů (1911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" name="Picture 8" descr="574px-Umberto_Boccioni_-_A_strada_entra_nella_casa"/>
          <p:cNvPicPr/>
          <p:nvPr/>
        </p:nvPicPr>
        <p:blipFill>
          <a:blip r:embed="rId3"/>
          <a:stretch/>
        </p:blipFill>
        <p:spPr>
          <a:xfrm>
            <a:off x="5565600" y="3429000"/>
            <a:ext cx="3073680" cy="3213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2" name="Text Box 9"/>
          <p:cNvSpPr/>
          <p:nvPr/>
        </p:nvSpPr>
        <p:spPr>
          <a:xfrm>
            <a:off x="3240000" y="270000"/>
            <a:ext cx="2881440" cy="703800"/>
          </a:xfrm>
          <a:prstGeom prst="rect">
            <a:avLst/>
          </a:prstGeom>
          <a:solidFill>
            <a:srgbClr val="003366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Futurismus  (1909-10)</a:t>
            </a: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Abstrakce (1910)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240000" y="1052640"/>
            <a:ext cx="2881440" cy="22885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No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ční chvějící se žár zbrojnic a loděnic... žravá nádraží, pohlcující kouřící hady, továrny pověšené za vlákna kouře na mraky...“ 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(Manifest futuristů 1912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431640" y="260280"/>
            <a:ext cx="3241800" cy="459720"/>
          </a:xfrm>
          <a:prstGeom prst="rect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Abstrakce (1910)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89440" y="260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Georgia"/>
              </a:rPr>
              <a:t>Barva je klávesa. Oko je úderní kladívko. Duše je klavír s mnoha strunami. Umělec je ruka, která úderem na onu klávesu způsobí vibraci duše.“</a:t>
            </a:r>
            <a:r>
              <a:rPr b="0" lang="cs-CZ" sz="1800" spc="-1" strike="noStrike">
                <a:solidFill>
                  <a:srgbClr val="ffffff"/>
                </a:solidFill>
                <a:latin typeface="Georgia"/>
              </a:rPr>
              <a:t> (V.Kandiskij, 1912)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" name="Picture 6" descr="Kandinsky_WWI"/>
          <p:cNvPicPr/>
          <p:nvPr/>
        </p:nvPicPr>
        <p:blipFill>
          <a:blip r:embed="rId1"/>
          <a:stretch/>
        </p:blipFill>
        <p:spPr>
          <a:xfrm>
            <a:off x="3252960" y="1525680"/>
            <a:ext cx="7331040" cy="4892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431640" y="836640"/>
            <a:ext cx="3241800" cy="2189520"/>
          </a:xfrm>
          <a:prstGeom prst="rect">
            <a:avLst/>
          </a:prstGeom>
          <a:solidFill>
            <a:srgbClr val="00008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Expresionistická abstrakc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eometrická abstrakc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a) Neoplasticismu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b)  Orf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c)  Rayonismus/Luč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)  Supremat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20720" y="5661000"/>
            <a:ext cx="2374920" cy="82404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Vasilij Kandinskij: Kompozice VII a VIII (1913 a 1923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" name="Picture 9" descr="kandinsky"/>
          <p:cNvPicPr/>
          <p:nvPr/>
        </p:nvPicPr>
        <p:blipFill>
          <a:blip r:embed="rId2"/>
          <a:stretch/>
        </p:blipFill>
        <p:spPr>
          <a:xfrm>
            <a:off x="431640" y="3179880"/>
            <a:ext cx="2665440" cy="1846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Mondrian-red-tre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68480" y="1197000"/>
            <a:ext cx="3809880" cy="2676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1" name="Picture 4" descr="mondrian-grey-tree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29200" y="260280"/>
            <a:ext cx="4896000" cy="3622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2" name="Picture 5" descr="mondrian trees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2076480" y="4005360"/>
            <a:ext cx="3600360" cy="2585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3" name="Picture 6" descr="mondr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908840" y="4005360"/>
            <a:ext cx="1758960" cy="2592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4" name="Picture 7" descr="mond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821200" y="4005360"/>
            <a:ext cx="1928880" cy="2592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5" name="Text Box 8"/>
          <p:cNvSpPr/>
          <p:nvPr/>
        </p:nvSpPr>
        <p:spPr>
          <a:xfrm>
            <a:off x="360360" y="4005360"/>
            <a:ext cx="1584360" cy="82404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Piet Mondrian: Stromy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655640" y="260280"/>
            <a:ext cx="3241800" cy="1819080"/>
          </a:xfrm>
          <a:prstGeom prst="rect">
            <a:avLst/>
          </a:prstGeom>
          <a:solidFill>
            <a:srgbClr val="000080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eometrická abstrakc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3300"/>
                </a:solidFill>
                <a:latin typeface="Georgia"/>
              </a:rPr>
              <a:t>a) Neoplasticismu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b)  Orf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c)  Rayonismus/Luč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)  Suprematismus 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6-24T07:45:15Z</dcterms:modified>
  <cp:revision>1181</cp:revision>
  <dc:subject/>
  <dc:title>Snímek 1</dc:title>
</cp:coreProperties>
</file>